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6E8-42B3-4299-8C2B-9D331123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A82-D139-4C9C-8CE4-63B06AAF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D33-37B9-4CA0-B41F-487AC8AF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884-7718-42EC-99E3-7122C356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A4C-9FC8-4BD4-9377-9080BF2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EDA-6C3E-476B-BDBF-8D58E448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695-DF3C-4B24-A15D-183FD16D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5BD-6769-4D1C-A903-223D0FE3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22D-CF03-4AC8-9085-E1E9F76A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43F-7F1E-41A9-A732-111FAB5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66A-A748-499E-8951-87824F3B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083-C94A-4C80-AF9D-71B5FD4B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7EAD4-B8D4-4F76-B2BA-5A9E6BBF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98600" y="287280"/>
            <a:ext cx="540072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Ocean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60360" y="1768320"/>
            <a:ext cx="9539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e6e6ff"/>
                </a:solidFill>
                <a:latin typeface="Arial"/>
              </a:rPr>
              <a:t>Please sit and relax as                                            we begin our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03280" y="287280"/>
            <a:ext cx="540072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Ocean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8:32:32Z</dcterms:created>
  <dc:creator/>
  <dc:description/>
  <dc:language>en-US</dc:language>
  <cp:lastModifiedBy/>
  <dcterms:modified xsi:type="dcterms:W3CDTF">2009-04-16T18:32:35Z</dcterms:modified>
  <cp:revision>2</cp:revision>
  <dc:subject/>
  <dc:title/>
</cp:coreProperties>
</file>